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5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E5F63-2223-4508-AE3E-65AA66AE01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BA06B-8333-4F1D-8DDB-C8F715B8E6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0D3FF-11D6-41E0-8AE6-590BF2CB1A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57BF4-ADE6-46E0-A66F-D8BD1EE032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72BEC-59AB-4E63-9214-C6738319D8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E4749-B3D2-4F78-AB92-47F79D9869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6706A-8CA3-4A64-99B0-ADC463C6F7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6019D-C3D1-493C-B44F-A78F9022B3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B07E6-01CA-4A67-BE52-E6B530B90F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8E0A5-B7BB-4625-A553-C29C667DFF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74BCE-90A0-47FE-ACFD-521ABC4922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CB3FE-B22C-40E6-80E4-5F51A03D99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1B758-E176-4EB5-8151-034E956CF8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40064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DEE98-1EC6-493C-9790-D925539799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95280" y="765000"/>
            <a:ext cx="5180040" cy="37706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7805-7AB1-431A-9ECA-E5739FF02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652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6440"/>
            <a:ext cx="905652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4580-A809-420E-823F-68460084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368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0D7A-8F9E-474D-86C6-23F235CD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080" y="176832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176832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644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080" y="436644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436644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022B-EB7A-4601-9B9E-971E5F5D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C9DA9-D1C8-41AD-B5DD-2FAC536F5A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5652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C54B8-B9A4-4C64-823D-06757619BF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652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24FE8-1978-4C85-B5A9-2029EBD6B4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54E3D-C314-4AD1-9053-5DAD3EE37F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D7C59-243A-4CA5-A92E-1B7E5E8601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229680"/>
            <a:ext cx="9056520" cy="64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E10BA-5989-44E3-8480-4987F2D682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2B838-0EA7-46DD-94DA-219174A5D2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5652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8202-C0C9-4499-B9FE-BE303A3F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368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CF19E-C824-4BC0-B040-B1FC01B7E1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905652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D3E44-A08E-4720-8EF0-371127A0C5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652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66440"/>
            <a:ext cx="905652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85680-A963-4CFF-A43F-2563A9B67F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368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EDBFB-2D3B-42BF-99BA-C04C620570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5080" y="176832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176832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6644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5080" y="436644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4366440"/>
            <a:ext cx="291600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D95E8-3702-4936-ACA0-D84B70D856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652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F77C-C8E8-4668-B7F3-6F2D4208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7E12-6396-4998-AD86-4291DBEE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0391-8690-44BC-87DC-CB233B97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9680"/>
            <a:ext cx="9056520" cy="64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69BA-A905-4D03-ACD9-E47341E7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5A5D-E06F-4422-8625-DF1EE526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3680" y="436644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D433-ED4B-47B8-BE86-8692E752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905652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DC82-91E9-426A-B149-9E41834C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60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EF6FB-9EC0-4962-8BCD-77A96E6D2BD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9680"/>
            <a:ext cx="9056520" cy="13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5652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3280" y="6886440"/>
            <a:ext cx="23446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48080" y="6886440"/>
            <a:ext cx="31939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7224840" y="6886080"/>
            <a:ext cx="23335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D3CCD-B5A7-44EC-B9F8-EBB568ABFB43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cologiavirtual.com.br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0328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000080"/>
                </a:solidFill>
                <a:latin typeface="Arial"/>
              </a:rPr>
              <a:t>BIE578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3280" y="1371600"/>
            <a:ext cx="907236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msgothic"/>
              </a:rPr>
              <a:t>Unidad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msgothic"/>
              </a:rPr>
              <a:t>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2142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msgothic"/>
              </a:rPr>
              <a:t>Reamostragem e Simul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03280" y="157320"/>
            <a:ext cx="9070920" cy="18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c00000"/>
                </a:solidFill>
                <a:latin typeface="Arial"/>
              </a:rPr>
              <a:t>sample()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Estrutura Básica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3440" y="2187720"/>
            <a:ext cx="991728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19280"/>
                <a:tab algn="l" pos="1442880"/>
                <a:tab algn="l" pos="2166840"/>
                <a:tab algn="l" pos="2890800"/>
                <a:tab algn="l" pos="3614760"/>
                <a:tab algn="l" pos="4343400"/>
                <a:tab algn="l" pos="5062680"/>
                <a:tab algn="l" pos="5786280"/>
                <a:tab algn="l" pos="6510240"/>
                <a:tab algn="l" pos="723420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sample(x, size, replace = FALSE,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prob = NUL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03280" y="157320"/>
            <a:ext cx="9070920" cy="18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c00000"/>
                </a:solidFill>
                <a:latin typeface="Arial"/>
              </a:rPr>
              <a:t>sample(); for(... in ...)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Estrutura Básica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3440" y="2187720"/>
            <a:ext cx="991728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nsim=1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resulta&lt;-rep(NA, nsi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for(i in 1:nsi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{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sdados&lt;-sample(dado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psd &lt;- … (sdado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resulta &lt;- ps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  <a:ea typeface="Courier New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4360" y="263520"/>
            <a:ext cx="9072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Test de Man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1874880"/>
            <a:ext cx="9610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1. Correlação entre matrizes de distâ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2. Permuta uma matriz e recalcula a correl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3. Repetir 2 muitas vez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4. Calcula a signficância de 1 a partir da distribuição de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4360" y="263520"/>
            <a:ext cx="9072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Test de Man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6200" y="1395360"/>
            <a:ext cx="10079280" cy="48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263520"/>
            <a:ext cx="9072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Intervalo de Confiança por Bootstr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874880"/>
            <a:ext cx="9610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1. Calcular o parâmetro de intere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2. Reamostrar com reposição os dad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3. Recalcular o parâmetro de interesse em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4. Repetir 3 muitas vezes (não precisa muito!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5. Encontrar os quantis de interesse em 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4360" y="457200"/>
            <a:ext cx="9072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Simulação de Proces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Ecológ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11320" y="1920960"/>
            <a:ext cx="5578560" cy="48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4360" y="263520"/>
            <a:ext cx="9072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Intervalo de Confiança por Bootstr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874880"/>
            <a:ext cx="9610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1. Calcular o parâmetro de intere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2. Reamostrar com reposição os dad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3. Recalcular o parâmetro de interesse em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4. Repetir 3 muitas vezes (não precisa muito!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5. Encontrar os quantis de interesse em 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2920" y="2998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900" spc="-1" strike="noStrike">
                <a:solidFill>
                  <a:srgbClr val="ffcc00"/>
                </a:solidFill>
                <a:latin typeface="Arial"/>
              </a:rPr>
              <a:t>Bibliografia Recomendad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74680" y="3965400"/>
            <a:ext cx="2316240" cy="3257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035760" y="1371600"/>
            <a:ext cx="3657600" cy="4937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921040" y="2011320"/>
            <a:ext cx="2657520" cy="36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08000" y="201600"/>
            <a:ext cx="907272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000"/>
                </a:solidFill>
                <a:latin typeface="Arial"/>
              </a:rPr>
              <a:t>A lógica dos cassino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5400" y="3611520"/>
            <a:ext cx="68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éculo XIX, quando o governo italiano estendeu ao restante daquele país a loteria napolitana, ele sentenciou: "é um imposto sobre a imbecilidade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8120" y="252360"/>
            <a:ext cx="1511280" cy="2460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-84240" y="2855880"/>
            <a:ext cx="223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millo Ben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de de Cav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56320" y="1392120"/>
            <a:ext cx="57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sto sobre a imbecilidade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03280" y="336600"/>
            <a:ext cx="9072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mentação Analí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2040" y="1595520"/>
            <a:ext cx="944892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ourier New"/>
              </a:rPr>
              <a:t>Monte Carlo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simulação de uma distribuição 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conhecida, ou mais geral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ourier New"/>
              </a:rPr>
              <a:t>Reamostragem (Permutação)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utiliza os dados para gerar 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distribuições nula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ourier New"/>
              </a:rPr>
              <a:t>Bootstrap e Jackknife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estima intervalos de confiança 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de  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um parâmetr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Courier New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66800" y="2484360"/>
            <a:ext cx="823608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Conjunto de métodos onde os dados são aleatorizados ou rearranjados para simular situaçãos esperadas pela H</a:t>
            </a:r>
            <a:r>
              <a:rPr b="1" lang="en-GB" sz="3600" spc="-1" strike="noStrike" baseline="-25000">
                <a:solidFill>
                  <a:srgbClr val="008000"/>
                </a:solidFill>
                <a:latin typeface="Courier New"/>
              </a:rPr>
              <a:t>0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263520"/>
            <a:ext cx="85471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onte Car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400" y="28440"/>
            <a:ext cx="293976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6800" y="2484360"/>
            <a:ext cx="823608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Conjunto de métodos onde os dados são aleatorizados ou rearranjados para simular situaçãos esperadas pela H</a:t>
            </a:r>
            <a:r>
              <a:rPr b="1" lang="en-GB" sz="3600" spc="-1" strike="noStrike" baseline="-25000">
                <a:solidFill>
                  <a:srgbClr val="008000"/>
                </a:solidFill>
                <a:latin typeface="Courier New"/>
              </a:rPr>
              <a:t>0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263520"/>
            <a:ext cx="85471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Monte Car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1400" y="28440"/>
            <a:ext cx="293976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6800" y="1905120"/>
            <a:ext cx="823608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Não há o necessidade de assumir um tipo de distribuição de probabilidades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INTUITIVA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263520"/>
            <a:ext cx="85471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amostragem e Simulaçõ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36600" y="1905120"/>
            <a:ext cx="949176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89000"/>
              </a:lnSpc>
              <a:buClr>
                <a:srgbClr val="000000"/>
              </a:buClr>
              <a:buFont typeface="Courier New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dificuldade comput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buClr>
                <a:srgbClr val="000000"/>
              </a:buClr>
              <a:buFont typeface="Courier New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resultado pode variar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buClr>
                <a:srgbClr val="000000"/>
              </a:buClr>
              <a:buFont typeface="Courier New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domínio de inferência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restr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- demanda um cenário nulo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adequad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263520"/>
            <a:ext cx="85471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amostragem e Simulaçõ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44680" y="1722600"/>
            <a:ext cx="8915400" cy="46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89000"/>
              </a:lnSpc>
              <a:buClr>
                <a:srgbClr val="000000"/>
              </a:buClr>
              <a:buFont typeface="Courier New"/>
              <a:buChar char="-"/>
              <a:tabLst>
                <a:tab algn="l" pos="644400"/>
                <a:tab algn="l" pos="1300320"/>
                <a:tab algn="l" pos="1957320"/>
                <a:tab algn="l" pos="2614680"/>
                <a:tab algn="l" pos="3270240"/>
                <a:tab algn="l" pos="3927600"/>
                <a:tab algn="l" pos="4583160"/>
                <a:tab algn="l" pos="5240160"/>
                <a:tab algn="l" pos="5897520"/>
                <a:tab algn="l" pos="6551640"/>
                <a:tab algn="l" pos="7218360"/>
                <a:tab algn="l" pos="7331040"/>
                <a:tab algn="l" pos="7738920"/>
                <a:tab algn="l" pos="8147160"/>
                <a:tab algn="l" pos="8555040"/>
                <a:tab algn="l" pos="8962920"/>
                <a:tab algn="l" pos="9372600"/>
                <a:tab algn="l" pos="9779040"/>
                <a:tab algn="l" pos="10190160"/>
                <a:tab algn="l" pos="10594800"/>
                <a:tab algn="l" pos="10779120"/>
                <a:tab algn="l" pos="1078056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amostras aleatórias e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independ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644400"/>
                <a:tab algn="l" pos="1300320"/>
                <a:tab algn="l" pos="1957320"/>
                <a:tab algn="l" pos="2614680"/>
                <a:tab algn="l" pos="3270240"/>
                <a:tab algn="l" pos="3927600"/>
                <a:tab algn="l" pos="4583160"/>
                <a:tab algn="l" pos="5240160"/>
                <a:tab algn="l" pos="5897520"/>
                <a:tab algn="l" pos="6551640"/>
                <a:tab algn="l" pos="7218360"/>
                <a:tab algn="l" pos="7331040"/>
                <a:tab algn="l" pos="7738920"/>
                <a:tab algn="l" pos="8147160"/>
                <a:tab algn="l" pos="8555040"/>
                <a:tab algn="l" pos="8962920"/>
                <a:tab algn="l" pos="9372600"/>
                <a:tab algn="l" pos="9779040"/>
                <a:tab algn="l" pos="10190160"/>
                <a:tab algn="l" pos="10594800"/>
                <a:tab algn="l" pos="10779120"/>
                <a:tab algn="l" pos="1078056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9000"/>
              </a:lnSpc>
              <a:buClr>
                <a:srgbClr val="000000"/>
              </a:buClr>
              <a:buFont typeface="Courier New"/>
              <a:buChar char="-"/>
              <a:tabLst>
                <a:tab algn="l" pos="644400"/>
                <a:tab algn="l" pos="1300320"/>
                <a:tab algn="l" pos="1957320"/>
                <a:tab algn="l" pos="2614680"/>
                <a:tab algn="l" pos="3270240"/>
                <a:tab algn="l" pos="3927600"/>
                <a:tab algn="l" pos="4583160"/>
                <a:tab algn="l" pos="5240160"/>
                <a:tab algn="l" pos="5897520"/>
                <a:tab algn="l" pos="6551640"/>
                <a:tab algn="l" pos="7218360"/>
                <a:tab algn="l" pos="7331040"/>
                <a:tab algn="l" pos="7738920"/>
                <a:tab algn="l" pos="8147160"/>
                <a:tab algn="l" pos="8555040"/>
                <a:tab algn="l" pos="8962920"/>
                <a:tab algn="l" pos="9372600"/>
                <a:tab algn="l" pos="9779040"/>
                <a:tab algn="l" pos="10190160"/>
                <a:tab algn="l" pos="10594800"/>
                <a:tab algn="l" pos="10779120"/>
                <a:tab algn="l" pos="1078056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a estatística descreve o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padrão de interes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644400"/>
                <a:tab algn="l" pos="1300320"/>
                <a:tab algn="l" pos="1957320"/>
                <a:tab algn="l" pos="2614680"/>
                <a:tab algn="l" pos="3270240"/>
                <a:tab algn="l" pos="3927600"/>
                <a:tab algn="l" pos="4583160"/>
                <a:tab algn="l" pos="5240160"/>
                <a:tab algn="l" pos="5897520"/>
                <a:tab algn="l" pos="6551640"/>
                <a:tab algn="l" pos="7218360"/>
                <a:tab algn="l" pos="7331040"/>
                <a:tab algn="l" pos="7738920"/>
                <a:tab algn="l" pos="8147160"/>
                <a:tab algn="l" pos="8555040"/>
                <a:tab algn="l" pos="8962920"/>
                <a:tab algn="l" pos="9372600"/>
                <a:tab algn="l" pos="9779040"/>
                <a:tab algn="l" pos="10190160"/>
                <a:tab algn="l" pos="10594800"/>
                <a:tab algn="l" pos="10779120"/>
                <a:tab algn="l" pos="1078056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9000"/>
              </a:lnSpc>
              <a:buClr>
                <a:srgbClr val="000000"/>
              </a:buClr>
              <a:buFont typeface="Courier New"/>
              <a:buChar char="-"/>
              <a:tabLst>
                <a:tab algn="l" pos="644400"/>
                <a:tab algn="l" pos="1300320"/>
                <a:tab algn="l" pos="1957320"/>
                <a:tab algn="l" pos="2614680"/>
                <a:tab algn="l" pos="3270240"/>
                <a:tab algn="l" pos="3927600"/>
                <a:tab algn="l" pos="4583160"/>
                <a:tab algn="l" pos="5240160"/>
                <a:tab algn="l" pos="5897520"/>
                <a:tab algn="l" pos="6551640"/>
                <a:tab algn="l" pos="7218360"/>
                <a:tab algn="l" pos="7331040"/>
                <a:tab algn="l" pos="7738920"/>
                <a:tab algn="l" pos="8147160"/>
                <a:tab algn="l" pos="8555040"/>
                <a:tab algn="l" pos="8962920"/>
                <a:tab algn="l" pos="9372600"/>
                <a:tab algn="l" pos="9779040"/>
                <a:tab algn="l" pos="10190160"/>
                <a:tab algn="l" pos="10594800"/>
                <a:tab algn="l" pos="10779120"/>
                <a:tab algn="l" pos="10780560"/>
                <a:tab algn="l" pos="10782360"/>
              </a:tabLst>
            </a:pPr>
            <a:r>
              <a:rPr b="1" i="1" lang="en-GB" sz="36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o cenário nulo descreve a 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GB" sz="3600" spc="-1" strike="noStrike">
                <a:solidFill>
                  <a:srgbClr val="008000"/>
                </a:solidFill>
                <a:latin typeface="Courier New"/>
              </a:rPr>
              <a:t>ausência do processo al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644400"/>
                <a:tab algn="l" pos="1300320"/>
                <a:tab algn="l" pos="1957320"/>
                <a:tab algn="l" pos="2614680"/>
                <a:tab algn="l" pos="3270240"/>
                <a:tab algn="l" pos="3927600"/>
                <a:tab algn="l" pos="4583160"/>
                <a:tab algn="l" pos="5240160"/>
                <a:tab algn="l" pos="5897520"/>
                <a:tab algn="l" pos="6551640"/>
                <a:tab algn="l" pos="7218360"/>
                <a:tab algn="l" pos="7331040"/>
                <a:tab algn="l" pos="7738920"/>
                <a:tab algn="l" pos="8147160"/>
                <a:tab algn="l" pos="8555040"/>
                <a:tab algn="l" pos="8962920"/>
                <a:tab algn="l" pos="9372600"/>
                <a:tab algn="l" pos="9779040"/>
                <a:tab algn="l" pos="10190160"/>
                <a:tab algn="l" pos="10594800"/>
                <a:tab algn="l" pos="10779120"/>
                <a:tab algn="l" pos="1078056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3280" y="0"/>
            <a:ext cx="85467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ssupos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1905120"/>
            <a:ext cx="5943600" cy="1020600"/>
          </a:xfrm>
          <a:prstGeom prst="line">
            <a:avLst/>
          </a:prstGeom>
          <a:ln w="547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828800" y="1917720"/>
            <a:ext cx="5851440" cy="828720"/>
          </a:xfrm>
          <a:prstGeom prst="line">
            <a:avLst/>
          </a:prstGeom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4360" y="263520"/>
            <a:ext cx="9072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d4814"/>
                </a:solidFill>
                <a:latin typeface="Arial"/>
              </a:rPr>
              <a:t>Teste de Hipótese por Reamostrag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Quatro Passo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874880"/>
            <a:ext cx="9610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1. Definir a estatística de intere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2. Reamostrar(reordenar) os dados para o cenário nul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3. Criar a distribuição de pesudo-valores (nulo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urier New"/>
              </a:rPr>
              <a:t>4. Comparar o valor observado e calcular “p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74640" indent="-662040">
              <a:lnSpc>
                <a:spcPct val="89000"/>
              </a:lnSpc>
              <a:tabLst>
                <a:tab algn="l" pos="0"/>
                <a:tab algn="l" pos="67464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65844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Courier New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14:23:45Z</dcterms:created>
  <dc:creator>alexandre </dc:creator>
  <dc:description/>
  <dc:language>en-US</dc:language>
  <cp:lastModifiedBy/>
  <cp:revision>0</cp:revision>
  <dc:subject/>
  <dc:title/>
</cp:coreProperties>
</file>