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D973E-E61E-42DF-8A2D-A3C9C7D64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4D25D-44BE-4973-B3C0-BC67124753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ED431-8AC4-4308-A489-CDB65E769A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B1966-3D57-4615-8551-BF66B53D4B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9D61D-89C9-4242-9E90-4CCC9B9F16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8D116-CDE0-4514-8B5C-979ECD7A59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DA90F-6309-4369-BF4B-D6F6DCE64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59562-69ED-4188-A16B-8CCB9E48E5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94683-0685-44A4-8A3F-9D2323C020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3BA74-68F4-4F6B-A985-3B60C9B7AC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B1459-1852-4976-B705-318E4DD98B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44C94-B0FE-4F1B-B899-0362AA4B0E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54AB7-D21F-432C-B420-C474E3E400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AC608-6CCF-4CC9-BDDF-B708FD1274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F66-34A6-46F0-99FC-9F627BA2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35D-C292-4731-9257-07EEE3FA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26D-22B8-4801-9902-4135B3A4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2E6-D971-4DD2-845E-023EFA54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6D676-0E26-491B-BA2B-F107734526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3C162-92B8-41CC-A521-A88CEBD2FE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2FCC4-90ED-42FE-83E8-64FBB84BA5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7A589-DB4D-481E-99D4-7127C295F0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12499-BA7D-407F-9AEA-BA2CCED207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49815-C539-47AD-BBDC-5F117997EA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D0C2A-8524-4399-AF12-6B43BC5AF3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DCD-0EE8-46AA-A78D-8BC805A2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01E42-CBE9-4F4D-B4A7-4948A55F01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FC92E-4E92-40ED-9929-8E79E133B7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440A2-4127-4CA4-8ACF-095B81E711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EE4A0-0966-4B79-9729-7607A4A5C3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364BA-E3F5-4BEE-83C8-CD13AFDB5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4C2-1A79-425C-A631-224DA94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3C7-F3EF-4F3A-8B86-BC294CD5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EE8-AA01-4B44-B3C8-324DD19F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679-6A28-4AC7-AFD0-74E32CAB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26B-E1DC-44C3-B96F-30274DB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D8D-8BC1-4553-98DA-4AE0D5E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3EA-5D1F-4C10-B962-D3D4D182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FE8F5-F369-48C0-8DE7-9F324E29B9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4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224840" y="6886080"/>
            <a:ext cx="23335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CA50E-7EA1-4EED-B455-BE99BA5F6A1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cologiavirtual.com.b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1371600"/>
            <a:ext cx="9072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Unidad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142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Reamostragem e S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ample(x, size, replace = FALSE,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rob = N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; for(... in ...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nsim=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&lt;-rep(NA, 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for(i in 1: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dados&lt;-sample(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sd &lt;- … (s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 &lt;- p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orrelação entre matrizes de distâ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Permuta uma matriz e recalcula a correl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petir 2 muitas vez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alcula a signficância de 1 a partir da distribuição d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395360"/>
            <a:ext cx="100792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5720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Simulação de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Ecoló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11320" y="1920960"/>
            <a:ext cx="55785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ffcc00"/>
                </a:solidFill>
                <a:latin typeface="Arial"/>
              </a:rPr>
              <a:t>Bibliografia Recomendad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680" y="3965400"/>
            <a:ext cx="2316240" cy="325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35760" y="1371600"/>
            <a:ext cx="3657600" cy="49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21040" y="2011320"/>
            <a:ext cx="265752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08000" y="201600"/>
            <a:ext cx="9072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Arial"/>
              </a:rPr>
              <a:t>A lógica dos cassin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5400" y="361152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éculo XIX, quando o governo italiano estendeu ao restante daquele país a loteria napolitana, ele sentenciou: "é um imposto sobre a imbecilidade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120" y="252360"/>
            <a:ext cx="1511280" cy="246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84240" y="285588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millo Ben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e de Cav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6320" y="139212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to sobre a imbecilidad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33660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mentação An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040" y="1595520"/>
            <a:ext cx="9448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Monte Carl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simulação de uma distribuição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conhecida, ou mais geral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Reamostragem (Permutação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tiliza os dados para gerar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istribuições nul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Bootstrap e Jackknif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estima intervalos de confiança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e 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m parâmetr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Não há o necessidade de assumir um tipo de distribuição de probabilidade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TUITIV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6600" y="1905120"/>
            <a:ext cx="94917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ificuldade comput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ultado pode variar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omínio de inferênci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t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- demanda um cenário nul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dequa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44680" y="1722600"/>
            <a:ext cx="8915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mostras aleatórias e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depen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 estatística descreve 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padrão de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i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o cenário nulo descreve 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usência do processo al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3280" y="0"/>
            <a:ext cx="8546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905120"/>
            <a:ext cx="5943600" cy="1020600"/>
          </a:xfrm>
          <a:prstGeom prst="line">
            <a:avLst/>
          </a:prstGeom>
          <a:ln w="547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1917720"/>
            <a:ext cx="5851440" cy="828720"/>
          </a:xfrm>
          <a:prstGeom prst="line">
            <a:avLst/>
          </a:prstGeom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e de Hipótese por Reamostrag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atro Passo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Definir a estatística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(reordenar) os dados para o cenário nu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Criar a distribuição de pesudo-valores (nul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omparar o valor observado e calcular “p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4:23:45Z</dcterms:created>
  <dc:creator>alexandre </dc:creator>
  <dc:description/>
  <dc:language>en-US</dc:language>
  <cp:lastModifiedBy/>
  <cp:revision>0</cp:revision>
  <dc:subject/>
  <dc:title/>
</cp:coreProperties>
</file>